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816B-0F9F-4811-A2D9-4B5EE390642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hdr"/>
          </p:nvPr>
        </p:nvSpPr>
        <p:spPr>
          <a:xfrm>
            <a:off x="1574280" y="88920"/>
            <a:ext cx="3683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ardworks GCSE Science: Chemis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aking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1924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utumn 2006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6109-C311-46D4-9893-C43C3CEF8A5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273200"/>
            <a:ext cx="542916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63B8-374D-4DF1-8E66-884B4817445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5DE6-35BC-48D4-BBF7-CA5D78DCE9E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1318-1A2E-4BE9-A844-8FE0F3D29F5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2C21-D0AE-47B6-8C62-1F066A01D90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dditional exercise would be to ask student to identify objects in the scene that are made of or contain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9E77-17E1-4252-8013-BBED885C695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7A64-E078-42F2-B39A-3E5DF10304E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2F3F-0580-42AB-98C2-8854D599420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DF44-EF43-4FDE-BB63-B9AAEB82636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1574640" y="88920"/>
            <a:ext cx="368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GCSE Science: Chemistr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king Polymer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5692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slide_background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55"/>
          <p:cNvGrpSpPr/>
          <p:nvPr/>
        </p:nvGrpSpPr>
        <p:grpSpPr>
          <a:xfrm>
            <a:off x="239760" y="158760"/>
            <a:ext cx="360360" cy="360360"/>
            <a:chOff x="239760" y="158760"/>
            <a:chExt cx="360360" cy="360360"/>
          </a:xfrm>
        </p:grpSpPr>
        <p:grpSp>
          <p:nvGrpSpPr>
            <p:cNvPr id="2" name="Group 50"/>
            <p:cNvGrpSpPr/>
            <p:nvPr/>
          </p:nvGrpSpPr>
          <p:grpSpPr>
            <a:xfrm>
              <a:off x="239760" y="158760"/>
              <a:ext cx="360360" cy="360360"/>
              <a:chOff x="239760" y="158760"/>
              <a:chExt cx="360360" cy="360360"/>
            </a:xfrm>
          </p:grpSpPr>
          <p:sp>
            <p:nvSpPr>
              <p:cNvPr id="3" name="Oval 51"/>
              <p:cNvSpPr/>
              <p:nvPr/>
            </p:nvSpPr>
            <p:spPr>
              <a:xfrm>
                <a:off x="239760" y="158760"/>
                <a:ext cx="360360" cy="360360"/>
              </a:xfrm>
              <a:prstGeom prst="ellipse">
                <a:avLst/>
              </a:prstGeom>
              <a:solidFill>
                <a:srgbClr val="01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10066"/>
                  </a:solidFill>
                  <a:latin typeface="Arial"/>
                </a:endParaRPr>
              </a:p>
            </p:txBody>
          </p:sp>
          <p:sp>
            <p:nvSpPr>
              <p:cNvPr id="4" name="Oval 52"/>
              <p:cNvSpPr/>
              <p:nvPr/>
            </p:nvSpPr>
            <p:spPr>
              <a:xfrm>
                <a:off x="257040" y="176040"/>
                <a:ext cx="325800" cy="3254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10066"/>
                  </a:solidFill>
                  <a:latin typeface="Arial"/>
                </a:endParaRPr>
              </a:p>
            </p:txBody>
          </p:sp>
        </p:grpSp>
        <p:pic>
          <p:nvPicPr>
            <p:cNvPr id="5" name="Picture 54" descr="top_left_circle"/>
            <p:cNvPicPr/>
            <p:nvPr/>
          </p:nvPicPr>
          <p:blipFill>
            <a:blip r:embed="rId3"/>
            <a:stretch/>
          </p:blipFill>
          <p:spPr>
            <a:xfrm>
              <a:off x="271440" y="190440"/>
              <a:ext cx="295200" cy="29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Text Box 58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AB73-1797-4BE8-ABFF-FC1F59D3B413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" name="Text Box 59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" name="Picture 60" descr="back_arrow_trans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0" name="Picture 65" descr="forward_arrow_grey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9" descr="CC3_contents_1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0B26-0017-457F-AA02-392B3FE4C559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0" descr="CC3_contents_2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DE6-BA69-4002-8446-9580E2915AEB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0" descr="CC3_contents_3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298A-D92A-48A6-A5EF-3A35A25B6E02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0" descr="CC3_contents_4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B087-6C0C-4378-A591-C84CA3E53F7A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2" descr="CC3_contents_5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forward_arrow_colou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0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A1AE-0E2F-4896-A46F-EB90E9C7892E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0" descr="CC3_title_slide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6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2537-39B2-45E2-ACF9-FBEF42601E5A}" type="slidenum">
              <a:rPr b="0" lang="en-GB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 of 4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</a:rPr>
              <a:t>© Boardworks Ltd 2006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2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45" descr="polymer3"/>
          <p:cNvPicPr/>
          <p:nvPr/>
        </p:nvPicPr>
        <p:blipFill>
          <a:blip r:embed="rId1"/>
          <a:stretch/>
        </p:blipFill>
        <p:spPr>
          <a:xfrm>
            <a:off x="700200" y="1649520"/>
            <a:ext cx="7743600" cy="46274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7"/>
          <p:cNvSpPr/>
          <p:nvPr/>
        </p:nvSpPr>
        <p:spPr>
          <a:xfrm>
            <a:off x="563400" y="2535120"/>
            <a:ext cx="71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word ‘polymer’ comes from the Greek words 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pol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meaning ‘many’) and 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meros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meaning ‘parts’)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2" name="Rectangle 372"/>
          <p:cNvSpPr/>
          <p:nvPr/>
        </p:nvSpPr>
        <p:spPr>
          <a:xfrm>
            <a:off x="563400" y="784080"/>
            <a:ext cx="85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olymer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very large molecules made when hundreds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onomer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join together to form long chain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3" name="Text Box 376"/>
          <p:cNvSpPr/>
          <p:nvPr/>
        </p:nvSpPr>
        <p:spPr>
          <a:xfrm>
            <a:off x="1884240" y="4435560"/>
            <a:ext cx="53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lastic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synthetic polymers that can be shaped by heat or pressur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 are polymers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305" name="Picture 453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04" descr="polythene_balls"/>
          <p:cNvPicPr/>
          <p:nvPr/>
        </p:nvPicPr>
        <p:blipFill>
          <a:blip r:embed="rId1"/>
          <a:stretch/>
        </p:blipFill>
        <p:spPr>
          <a:xfrm>
            <a:off x="2392200" y="2801880"/>
            <a:ext cx="5783400" cy="1596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03" descr="polythene_symbols"/>
          <p:cNvPicPr/>
          <p:nvPr/>
        </p:nvPicPr>
        <p:blipFill>
          <a:blip r:embed="rId2"/>
          <a:stretch/>
        </p:blipFill>
        <p:spPr>
          <a:xfrm>
            <a:off x="2306520" y="4842000"/>
            <a:ext cx="5829480" cy="14270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563400" y="784080"/>
            <a:ext cx="84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monomers in a polymer are joined together by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ovalent bon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between atoms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563400" y="1743120"/>
            <a:ext cx="85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 a covalent bond, each atom shares one or more electron with another atom. The bonds are sometimes shown as stick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 keeps the chain together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311" name="Group 406"/>
          <p:cNvGrpSpPr/>
          <p:nvPr/>
        </p:nvGrpSpPr>
        <p:grpSpPr>
          <a:xfrm>
            <a:off x="291960" y="3624480"/>
            <a:ext cx="2760120" cy="1832760"/>
            <a:chOff x="291960" y="3624480"/>
            <a:chExt cx="2760120" cy="1832760"/>
          </a:xfrm>
        </p:grpSpPr>
        <p:sp>
          <p:nvSpPr>
            <p:cNvPr id="312" name="Text Box 398"/>
            <p:cNvSpPr/>
            <p:nvPr/>
          </p:nvSpPr>
          <p:spPr>
            <a:xfrm>
              <a:off x="291960" y="4254480"/>
              <a:ext cx="155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covalent bond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13" name="Line 399"/>
            <p:cNvSpPr/>
            <p:nvPr/>
          </p:nvSpPr>
          <p:spPr>
            <a:xfrm flipV="1">
              <a:off x="1819800" y="3624480"/>
              <a:ext cx="1232280" cy="1069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14" name="Line 405"/>
            <p:cNvSpPr/>
            <p:nvPr/>
          </p:nvSpPr>
          <p:spPr>
            <a:xfrm>
              <a:off x="1814760" y="4694760"/>
              <a:ext cx="1174320" cy="762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15" name="Picture 407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8" descr="ethene"/>
          <p:cNvPicPr/>
          <p:nvPr/>
        </p:nvPicPr>
        <p:blipFill>
          <a:blip r:embed="rId1"/>
          <a:stretch/>
        </p:blipFill>
        <p:spPr>
          <a:xfrm>
            <a:off x="5264280" y="2786040"/>
            <a:ext cx="1550880" cy="101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0" descr="propene"/>
          <p:cNvPicPr/>
          <p:nvPr/>
        </p:nvPicPr>
        <p:blipFill>
          <a:blip r:embed="rId2"/>
          <a:stretch/>
        </p:blipFill>
        <p:spPr>
          <a:xfrm>
            <a:off x="4938840" y="4956120"/>
            <a:ext cx="2198520" cy="13701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563400" y="784080"/>
            <a:ext cx="840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any polymers are formed from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lkene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are a family of hydrocarbon molecules with the general formul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400" y="1770120"/>
            <a:ext cx="85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lkenes contain at least one double covalent bond between carbon atoms. The double bond makes them very reactiv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 are polymers made from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1" name="Rectangle 57"/>
          <p:cNvSpPr/>
          <p:nvPr/>
        </p:nvSpPr>
        <p:spPr>
          <a:xfrm>
            <a:off x="563400" y="2884320"/>
            <a:ext cx="3907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simplest alkene i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ethene (C</a:t>
            </a:r>
            <a:r>
              <a:rPr b="1" lang="en-GB" sz="24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2" name="Rectangle 59"/>
          <p:cNvSpPr/>
          <p:nvPr/>
        </p:nvSpPr>
        <p:spPr>
          <a:xfrm>
            <a:off x="563400" y="5049720"/>
            <a:ext cx="414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second simplest alkene i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ropene (C</a:t>
            </a:r>
            <a:r>
              <a:rPr b="1" lang="en-GB" sz="24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ff6600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23" name="Group 65"/>
          <p:cNvGrpSpPr/>
          <p:nvPr/>
        </p:nvGrpSpPr>
        <p:grpSpPr>
          <a:xfrm>
            <a:off x="6145560" y="3449880"/>
            <a:ext cx="2544480" cy="2020320"/>
            <a:chOff x="6145560" y="3449880"/>
            <a:chExt cx="2544480" cy="2020320"/>
          </a:xfrm>
        </p:grpSpPr>
        <p:sp>
          <p:nvSpPr>
            <p:cNvPr id="324" name="Text Box 61"/>
            <p:cNvSpPr/>
            <p:nvPr/>
          </p:nvSpPr>
          <p:spPr>
            <a:xfrm>
              <a:off x="7237440" y="3768840"/>
              <a:ext cx="1452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double covalent</a:t>
              </a:r>
              <a:br>
                <a:rPr sz="2400"/>
              </a:b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bond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25" name="Line 62"/>
            <p:cNvSpPr/>
            <p:nvPr/>
          </p:nvSpPr>
          <p:spPr>
            <a:xfrm flipH="1" flipV="1">
              <a:off x="6145560" y="3449880"/>
              <a:ext cx="987120" cy="93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26" name="Line 64"/>
            <p:cNvSpPr/>
            <p:nvPr/>
          </p:nvSpPr>
          <p:spPr>
            <a:xfrm flipH="1">
              <a:off x="6393240" y="4383360"/>
              <a:ext cx="727920" cy="10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27" name="Picture 66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563400" y="784080"/>
            <a:ext cx="85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w are monomers turned into polymers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29" name="Picture 11" descr="C3 2a_cartoon_PAT"/>
          <p:cNvPicPr/>
          <p:nvPr/>
        </p:nvPicPr>
        <p:blipFill>
          <a:blip r:embed="rId1"/>
          <a:srcRect l="4279" t="0" r="4279" b="0"/>
          <a:stretch/>
        </p:blipFill>
        <p:spPr>
          <a:xfrm>
            <a:off x="244440" y="1297080"/>
            <a:ext cx="8677440" cy="48322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Making polymers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331" name="Picture 14" descr="notes_icon"/>
          <p:cNvPicPr/>
          <p:nvPr/>
        </p:nvPicPr>
        <p:blipFill>
          <a:blip r:embed="rId2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Addition polymerization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669960" y="78408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olyethene (sometimes called polythene) is a polymer made from ethen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669960" y="1685880"/>
            <a:ext cx="84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process by which polyethene and other polymers is made is calle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ddition polymerizatio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This is because many monomers (ethene molecules) are added together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36" name="Picture 6" descr="ethene"/>
          <p:cNvPicPr/>
          <p:nvPr/>
        </p:nvPicPr>
        <p:blipFill>
          <a:blip r:embed="rId1"/>
          <a:stretch/>
        </p:blipFill>
        <p:spPr>
          <a:xfrm>
            <a:off x="339840" y="3132000"/>
            <a:ext cx="155088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ethene"/>
          <p:cNvPicPr/>
          <p:nvPr/>
        </p:nvPicPr>
        <p:blipFill>
          <a:blip r:embed="rId2"/>
          <a:stretch/>
        </p:blipFill>
        <p:spPr>
          <a:xfrm>
            <a:off x="2652840" y="3132000"/>
            <a:ext cx="1550880" cy="1017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ethene"/>
          <p:cNvPicPr/>
          <p:nvPr/>
        </p:nvPicPr>
        <p:blipFill>
          <a:blip r:embed="rId3"/>
          <a:stretch/>
        </p:blipFill>
        <p:spPr>
          <a:xfrm>
            <a:off x="4967280" y="3132000"/>
            <a:ext cx="1550880" cy="1017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ethene"/>
          <p:cNvPicPr/>
          <p:nvPr/>
        </p:nvPicPr>
        <p:blipFill>
          <a:blip r:embed="rId4"/>
          <a:stretch/>
        </p:blipFill>
        <p:spPr>
          <a:xfrm>
            <a:off x="7281720" y="3094200"/>
            <a:ext cx="155124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23"/>
          <p:cNvGrpSpPr/>
          <p:nvPr/>
        </p:nvGrpSpPr>
        <p:grpSpPr>
          <a:xfrm>
            <a:off x="4407480" y="4305240"/>
            <a:ext cx="4136400" cy="566640"/>
            <a:chOff x="4407480" y="4305240"/>
            <a:chExt cx="4136400" cy="566640"/>
          </a:xfrm>
        </p:grpSpPr>
        <p:sp>
          <p:nvSpPr>
            <p:cNvPr id="341" name="Text Box 18"/>
            <p:cNvSpPr/>
            <p:nvPr/>
          </p:nvSpPr>
          <p:spPr>
            <a:xfrm rot="5400000">
              <a:off x="4355640" y="43603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Monotype Sorts"/>
                  <a:ea typeface="Monotype Sorts"/>
                </a:rPr>
                <a:t>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42" name="Text Box 19"/>
            <p:cNvSpPr/>
            <p:nvPr/>
          </p:nvSpPr>
          <p:spPr>
            <a:xfrm>
              <a:off x="4800600" y="4305240"/>
              <a:ext cx="37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addition polymerization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sp>
        <p:nvSpPr>
          <p:cNvPr id="343" name="Text Box 20"/>
          <p:cNvSpPr/>
          <p:nvPr/>
        </p:nvSpPr>
        <p:spPr>
          <a:xfrm>
            <a:off x="587520" y="429264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onomer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44" name="Group 24"/>
          <p:cNvGrpSpPr/>
          <p:nvPr/>
        </p:nvGrpSpPr>
        <p:grpSpPr>
          <a:xfrm>
            <a:off x="587520" y="5076720"/>
            <a:ext cx="6298920" cy="1400400"/>
            <a:chOff x="587520" y="5076720"/>
            <a:chExt cx="6298920" cy="1400400"/>
          </a:xfrm>
        </p:grpSpPr>
        <p:pic>
          <p:nvPicPr>
            <p:cNvPr id="345" name="Picture 13" descr="polythene_symbols"/>
            <p:cNvPicPr/>
            <p:nvPr/>
          </p:nvPicPr>
          <p:blipFill>
            <a:blip r:embed="rId5"/>
            <a:stretch/>
          </p:blipFill>
          <p:spPr>
            <a:xfrm>
              <a:off x="2259000" y="5076720"/>
              <a:ext cx="4627440" cy="14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21"/>
            <p:cNvSpPr/>
            <p:nvPr/>
          </p:nvSpPr>
          <p:spPr>
            <a:xfrm>
              <a:off x="587520" y="551808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polymer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47" name="Picture 25" descr="forward_arrow_colour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Drawing polymers – shorthand formulae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563400" y="784080"/>
            <a:ext cx="84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olymers contain thousands of molecules, so how can their structures be easily drawn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563400" y="1762200"/>
            <a:ext cx="84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art of the polymer molecule can be drawn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51" name="Picture 7" descr="polythene_symbols"/>
          <p:cNvPicPr/>
          <p:nvPr/>
        </p:nvPicPr>
        <p:blipFill>
          <a:blip r:embed="rId1"/>
          <a:stretch/>
        </p:blipFill>
        <p:spPr>
          <a:xfrm>
            <a:off x="1690560" y="2405160"/>
            <a:ext cx="5762880" cy="14112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8"/>
          <p:cNvSpPr/>
          <p:nvPr/>
        </p:nvSpPr>
        <p:spPr>
          <a:xfrm>
            <a:off x="563400" y="4121280"/>
            <a:ext cx="84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better way is to show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horthan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53" name="Picture 9" descr="polythene_formula"/>
          <p:cNvPicPr/>
          <p:nvPr/>
        </p:nvPicPr>
        <p:blipFill>
          <a:blip r:embed="rId2"/>
          <a:stretch/>
        </p:blipFill>
        <p:spPr>
          <a:xfrm>
            <a:off x="1690560" y="4665600"/>
            <a:ext cx="1677960" cy="17733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3705120" y="4905360"/>
            <a:ext cx="51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‘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’ means that the polymer contains a very large number of the repeating unit shown in the bracket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55" name="Picture 11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’s the polymer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563400" y="784080"/>
            <a:ext cx="84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shorthand formula for polypropene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563400" y="1660680"/>
            <a:ext cx="2408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monomer i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ropen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C</a:t>
            </a:r>
            <a:r>
              <a:rPr b="0" lang="en-GB" sz="2400" spc="-1" strike="noStrike" baseline="-25000">
                <a:solidFill>
                  <a:srgbClr val="010066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</a:t>
            </a:r>
            <a:r>
              <a:rPr b="0" lang="en-GB" sz="2400" spc="-1" strike="noStrike" baseline="-25000">
                <a:solidFill>
                  <a:srgbClr val="010066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59" name="Picture 8" descr="propene"/>
          <p:cNvPicPr/>
          <p:nvPr/>
        </p:nvPicPr>
        <p:blipFill>
          <a:blip r:embed="rId1"/>
          <a:stretch/>
        </p:blipFill>
        <p:spPr>
          <a:xfrm>
            <a:off x="3043080" y="1422360"/>
            <a:ext cx="2198880" cy="1370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9"/>
          <p:cNvSpPr/>
          <p:nvPr/>
        </p:nvSpPr>
        <p:spPr>
          <a:xfrm>
            <a:off x="5430960" y="1660680"/>
            <a:ext cx="19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ich can</a:t>
            </a:r>
            <a:br>
              <a:rPr sz="2400"/>
            </a:b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 drawn as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61" name="Picture 10" descr="propene2"/>
          <p:cNvPicPr/>
          <p:nvPr/>
        </p:nvPicPr>
        <p:blipFill>
          <a:blip r:embed="rId2"/>
          <a:stretch/>
        </p:blipFill>
        <p:spPr>
          <a:xfrm>
            <a:off x="7372440" y="149688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1"/>
          <p:cNvSpPr/>
          <p:nvPr/>
        </p:nvSpPr>
        <p:spPr>
          <a:xfrm>
            <a:off x="563400" y="3008160"/>
            <a:ext cx="50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raw two C atoms that were in the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doubl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bond with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singl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covalent bond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563400" y="4299120"/>
            <a:ext cx="47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raw the brackets and the ‘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’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563400" y="5419800"/>
            <a:ext cx="52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 the atoms that were attached to each C atom of the double bond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63400" y="4859280"/>
            <a:ext cx="51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 the links outside the bracket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66" name="Group 25"/>
          <p:cNvGrpSpPr/>
          <p:nvPr/>
        </p:nvGrpSpPr>
        <p:grpSpPr>
          <a:xfrm>
            <a:off x="6311880" y="3710160"/>
            <a:ext cx="2048040" cy="2372400"/>
            <a:chOff x="6311880" y="3710160"/>
            <a:chExt cx="2048040" cy="2372400"/>
          </a:xfrm>
        </p:grpSpPr>
        <p:pic>
          <p:nvPicPr>
            <p:cNvPr id="367" name="Picture 19" descr="polypropene_formula4"/>
            <p:cNvPicPr/>
            <p:nvPr/>
          </p:nvPicPr>
          <p:blipFill>
            <a:blip r:embed="rId3"/>
            <a:stretch/>
          </p:blipFill>
          <p:spPr>
            <a:xfrm>
              <a:off x="6481800" y="3713040"/>
              <a:ext cx="169056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polypropene_formula1"/>
            <p:cNvPicPr/>
            <p:nvPr/>
          </p:nvPicPr>
          <p:blipFill>
            <a:blip r:embed="rId4"/>
            <a:stretch/>
          </p:blipFill>
          <p:spPr>
            <a:xfrm>
              <a:off x="6470640" y="3754440"/>
              <a:ext cx="1725480" cy="17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polypropene_formula2"/>
            <p:cNvPicPr/>
            <p:nvPr/>
          </p:nvPicPr>
          <p:blipFill>
            <a:blip r:embed="rId5"/>
            <a:stretch/>
          </p:blipFill>
          <p:spPr>
            <a:xfrm>
              <a:off x="6472080" y="3710160"/>
              <a:ext cx="1725840" cy="18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2" descr="polypropene_formula3"/>
            <p:cNvPicPr/>
            <p:nvPr/>
          </p:nvPicPr>
          <p:blipFill>
            <a:blip r:embed="rId6"/>
            <a:stretch/>
          </p:blipFill>
          <p:spPr>
            <a:xfrm>
              <a:off x="6469200" y="3716280"/>
              <a:ext cx="171756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23"/>
            <p:cNvSpPr/>
            <p:nvPr/>
          </p:nvSpPr>
          <p:spPr>
            <a:xfrm>
              <a:off x="6311880" y="5622840"/>
              <a:ext cx="204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6600"/>
                  </a:solidFill>
                  <a:latin typeface="Arial"/>
                </a:rPr>
                <a:t>polypropene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72" name="Picture 26" descr="forward_arrow_colour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5692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What’s the monomer?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4" name="Text Box 42"/>
          <p:cNvSpPr/>
          <p:nvPr/>
        </p:nvSpPr>
        <p:spPr>
          <a:xfrm>
            <a:off x="563400" y="784080"/>
            <a:ext cx="37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is the monomer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polyvinylchlorid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PVC)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75" name="Picture 43" descr="PVC_formula"/>
          <p:cNvPicPr/>
          <p:nvPr/>
        </p:nvPicPr>
        <p:blipFill>
          <a:blip r:embed="rId1"/>
          <a:stretch/>
        </p:blipFill>
        <p:spPr>
          <a:xfrm>
            <a:off x="4781520" y="828720"/>
            <a:ext cx="1641600" cy="17352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4"/>
          <p:cNvSpPr/>
          <p:nvPr/>
        </p:nvSpPr>
        <p:spPr>
          <a:xfrm>
            <a:off x="563400" y="2625840"/>
            <a:ext cx="50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raw two C atoms joined with a 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doubl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covalent bond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7" name="Text Box 45"/>
          <p:cNvSpPr/>
          <p:nvPr/>
        </p:nvSpPr>
        <p:spPr>
          <a:xfrm>
            <a:off x="563400" y="3498840"/>
            <a:ext cx="505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 the atoms attached to each C atom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8" name="Text Box 47"/>
          <p:cNvSpPr/>
          <p:nvPr/>
        </p:nvSpPr>
        <p:spPr>
          <a:xfrm>
            <a:off x="563400" y="4371840"/>
            <a:ext cx="40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raw the brackets and ‘</a:t>
            </a:r>
            <a:r>
              <a:rPr b="0" i="1" lang="en-GB" sz="2400" spc="-1" strike="noStrike">
                <a:solidFill>
                  <a:srgbClr val="0100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’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79" name="Group 55"/>
          <p:cNvGrpSpPr/>
          <p:nvPr/>
        </p:nvGrpSpPr>
        <p:grpSpPr>
          <a:xfrm>
            <a:off x="6078600" y="2952720"/>
            <a:ext cx="2343240" cy="1440000"/>
            <a:chOff x="6078600" y="2952720"/>
            <a:chExt cx="2343240" cy="1440000"/>
          </a:xfrm>
        </p:grpSpPr>
        <p:pic>
          <p:nvPicPr>
            <p:cNvPr id="380" name="Picture 48" descr="vinylchloride_brackets3"/>
            <p:cNvPicPr/>
            <p:nvPr/>
          </p:nvPicPr>
          <p:blipFill>
            <a:blip r:embed="rId2"/>
            <a:stretch/>
          </p:blipFill>
          <p:spPr>
            <a:xfrm>
              <a:off x="6078600" y="2952720"/>
              <a:ext cx="23432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49" descr="vinylchloride_brackets1"/>
            <p:cNvPicPr/>
            <p:nvPr/>
          </p:nvPicPr>
          <p:blipFill>
            <a:blip r:embed="rId3"/>
            <a:stretch/>
          </p:blipFill>
          <p:spPr>
            <a:xfrm>
              <a:off x="6145200" y="2992320"/>
              <a:ext cx="222552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50" descr="vinylchloride_brackets2"/>
            <p:cNvPicPr/>
            <p:nvPr/>
          </p:nvPicPr>
          <p:blipFill>
            <a:blip r:embed="rId4"/>
            <a:stretch/>
          </p:blipFill>
          <p:spPr>
            <a:xfrm>
              <a:off x="6118200" y="2984400"/>
              <a:ext cx="2276640" cy="14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 Box 51"/>
          <p:cNvSpPr/>
          <p:nvPr/>
        </p:nvSpPr>
        <p:spPr>
          <a:xfrm>
            <a:off x="563400" y="4962600"/>
            <a:ext cx="25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quation for the reaction can be drawn as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84" name="Group 56"/>
          <p:cNvGrpSpPr/>
          <p:nvPr/>
        </p:nvGrpSpPr>
        <p:grpSpPr>
          <a:xfrm>
            <a:off x="3305160" y="4788000"/>
            <a:ext cx="4905360" cy="1735200"/>
            <a:chOff x="3305160" y="4788000"/>
            <a:chExt cx="4905360" cy="1735200"/>
          </a:xfrm>
        </p:grpSpPr>
        <p:pic>
          <p:nvPicPr>
            <p:cNvPr id="385" name="Picture 52" descr="vinylchloride_brackets"/>
            <p:cNvPicPr/>
            <p:nvPr/>
          </p:nvPicPr>
          <p:blipFill>
            <a:blip r:embed="rId5"/>
            <a:stretch/>
          </p:blipFill>
          <p:spPr>
            <a:xfrm>
              <a:off x="3305160" y="4989600"/>
              <a:ext cx="227664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53" descr="PVC_formula"/>
            <p:cNvPicPr/>
            <p:nvPr/>
          </p:nvPicPr>
          <p:blipFill>
            <a:blip r:embed="rId6"/>
            <a:stretch/>
          </p:blipFill>
          <p:spPr>
            <a:xfrm>
              <a:off x="6568920" y="4788000"/>
              <a:ext cx="1641600" cy="17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 Box 54"/>
            <p:cNvSpPr/>
            <p:nvPr/>
          </p:nvSpPr>
          <p:spPr>
            <a:xfrm>
              <a:off x="5832360" y="5429160"/>
              <a:ext cx="5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Monotype Sorts"/>
                  <a:ea typeface="Monotype Sorts"/>
                </a:rPr>
                <a:t></a:t>
              </a:r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pic>
        <p:nvPicPr>
          <p:cNvPr id="388" name="Picture 57" descr="forward_arrow_colour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14:30:27Z</dcterms:created>
  <dc:creator>Boardworks Ltd.</dc:creator>
  <dc:description/>
  <dc:language>en-US</dc:language>
  <cp:lastModifiedBy>Client Admin</cp:lastModifiedBy>
  <cp:lastPrinted>2000-09-06T14:07:33Z</cp:lastPrinted>
  <dcterms:modified xsi:type="dcterms:W3CDTF">2013-02-18T13:44:00Z</dcterms:modified>
  <cp:revision>853</cp:revision>
  <dc:subject>GCSE Science - Chemistry (Autumn 2006)</dc:subject>
  <dc:title>4. Making Polymers</dc:title>
</cp:coreProperties>
</file>